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92CF-8A86-4F65-949A-01BE3744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4009-ACA7-4977-A13D-8611E81B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D6A-28FB-42BB-9799-57C13641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4B3F-C4D9-4929-9EF1-1A8EBF84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46F-52DE-4EAC-AF7F-09EF5196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8ECD-B257-4969-B533-84762507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BFB-AE73-43FD-A581-13E48A19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E95-9A52-478B-94B1-8ECA88B9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758-F254-42D2-B6CD-F31516FF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1E01-D0EB-4886-85C2-914B629A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A438-F019-4129-B6F8-9F169C93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D8F8-13D9-4B96-8F6B-714108F2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7FE1-E4DE-414D-8FED-5C91EAF81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ukladiva.cz/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3716280"/>
            <a:ext cx="3886200" cy="2760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4318200" cy="2806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97560" y="2463840"/>
            <a:ext cx="4317840" cy="3251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64560" y="758880"/>
            <a:ext cx="48823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o je 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„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ospůdka U KLADIVA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2440" y="5880240"/>
            <a:ext cx="3484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Jak ji najdete?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5616720" cy="4065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03640" y="494172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4941720"/>
            <a:ext cx="171432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427640" y="4941720"/>
            <a:ext cx="1150920" cy="1062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pipy"/>
          <p:cNvPicPr/>
          <p:nvPr/>
        </p:nvPicPr>
        <p:blipFill>
          <a:blip r:embed="rId6"/>
          <a:stretch/>
        </p:blipFill>
        <p:spPr>
          <a:xfrm>
            <a:off x="6048360" y="4797360"/>
            <a:ext cx="1908360" cy="1301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50880" y="6165720"/>
            <a:ext cx="39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kračuj kliknutím na jakýkoliv obráz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5:08:32Z</dcterms:created>
  <dc:creator>User X</dc:creator>
  <dc:description/>
  <dc:language>en-US</dc:language>
  <cp:lastModifiedBy>SAP</cp:lastModifiedBy>
  <dcterms:modified xsi:type="dcterms:W3CDTF">2011-07-26T05:51:12Z</dcterms:modified>
  <cp:revision>32</cp:revision>
  <dc:subject/>
  <dc:title>Prezentace aplikace PowerPoint</dc:title>
</cp:coreProperties>
</file>